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FA70-8FC2-4199-B02E-CFC2F4277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6D95-34F1-4462-9D7C-07120104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6DC7-0577-4C5F-B18D-1A80F067F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A30B-CE93-431A-A4CA-C47C297E1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69B3-0ACD-458A-A9EE-B345DC6D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93B7-AB9C-46AD-AA1F-B11E5A86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7E5B-EF2E-4C68-AB50-140042A5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CEA0-AFB1-4C74-8435-0E4E1097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184E-018B-4C9E-90B3-CBED71E6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664A-507B-485F-A389-4335DFCE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DE48-A91C-45AD-BB55-C6EFB5A1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E636-3D67-4E10-B29C-F1934701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9771-E178-4CB1-A0C0-929A642A8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urpleflowers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Reproduction i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Flowering Plant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533520" y="838080"/>
            <a:ext cx="7924680" cy="3020040"/>
            <a:chOff x="533520" y="838080"/>
            <a:chExt cx="7924680" cy="3020040"/>
          </a:xfrm>
        </p:grpSpPr>
        <p:grpSp>
          <p:nvGrpSpPr>
            <p:cNvPr id="103" name=""/>
            <p:cNvGrpSpPr/>
            <p:nvPr/>
          </p:nvGrpSpPr>
          <p:grpSpPr>
            <a:xfrm>
              <a:off x="533520" y="838080"/>
              <a:ext cx="7543800" cy="2379960"/>
              <a:chOff x="533520" y="838080"/>
              <a:chExt cx="7543800" cy="2379960"/>
            </a:xfrm>
          </p:grpSpPr>
          <p:sp>
            <p:nvSpPr>
              <p:cNvPr id="104" name=""/>
              <p:cNvSpPr/>
              <p:nvPr/>
            </p:nvSpPr>
            <p:spPr>
              <a:xfrm>
                <a:off x="1143000" y="2514600"/>
                <a:ext cx="5867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stigma of </a:t>
                </a:r>
                <a:r>
                  <a:rPr b="0" lang="en-US" sz="4000" spc="-1" strike="noStrike" u="sng">
                    <a:solidFill>
                      <a:srgbClr val="660066"/>
                    </a:solidFill>
                    <a:uFillTx/>
                    <a:latin typeface="Times New Roman"/>
                    <a:ea typeface="Times New Roman"/>
                  </a:rPr>
                  <a:t>another</a:t>
                </a:r>
                <a:r>
                  <a:rPr b="0" lang="en-US" sz="40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 plant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143000" y="1676520"/>
                <a:ext cx="66294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one flower is transferred to the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33520" y="838080"/>
                <a:ext cx="75438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2.  </a:t>
                </a:r>
                <a:r>
                  <a:rPr b="1" lang="en-US" sz="4000" spc="-1" strike="noStrike" u="sng">
                    <a:solidFill>
                      <a:srgbClr val="660066"/>
                    </a:solidFill>
                    <a:uFillTx/>
                    <a:latin typeface="Times New Roman"/>
                    <a:ea typeface="Times New Roman"/>
                  </a:rPr>
                  <a:t>cross pollination</a:t>
                </a:r>
                <a:r>
                  <a:rPr b="0" lang="en-US" sz="40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 – the pollen of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1143000" y="3276720"/>
              <a:ext cx="7315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66"/>
                  </a:solidFill>
                  <a:latin typeface="Times New Roman"/>
                </a:rPr>
                <a:t>(offspring will be genetically different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Double Fertilizatio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371600" y="4343400"/>
            <a:ext cx="7467480" cy="1465560"/>
            <a:chOff x="1371600" y="4343400"/>
            <a:chExt cx="7467480" cy="1465560"/>
          </a:xfrm>
        </p:grpSpPr>
        <p:sp>
          <p:nvSpPr>
            <p:cNvPr id="110" name=""/>
            <p:cNvSpPr/>
            <p:nvPr/>
          </p:nvSpPr>
          <p:spPr>
            <a:xfrm>
              <a:off x="1981080" y="5105520"/>
              <a:ext cx="6324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form the zygote </a:t>
              </a:r>
              <a:r>
                <a:rPr b="0" lang="en-US" sz="35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(aka: the </a:t>
              </a:r>
              <a:r>
                <a:rPr b="1" lang="en-US" sz="3500" spc="-1" strike="noStrike" u="sng">
                  <a:solidFill>
                    <a:srgbClr val="660066"/>
                  </a:solidFill>
                  <a:uFillTx/>
                  <a:latin typeface="Times New Roman"/>
                  <a:ea typeface="Times New Roman"/>
                </a:rPr>
                <a:t>seed</a:t>
              </a:r>
              <a:r>
                <a:rPr b="0" lang="en-US" sz="35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)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371600" y="4343400"/>
              <a:ext cx="7467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a.  one sperm fuses with the egg t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685800" y="35053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2.   each pollen grain has two sper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33520" y="1447920"/>
            <a:ext cx="8839080" cy="2075040"/>
            <a:chOff x="533520" y="1447920"/>
            <a:chExt cx="8839080" cy="2075040"/>
          </a:xfrm>
        </p:grpSpPr>
        <p:sp>
          <p:nvSpPr>
            <p:cNvPr id="114" name=""/>
            <p:cNvSpPr/>
            <p:nvPr/>
          </p:nvSpPr>
          <p:spPr>
            <a:xfrm>
              <a:off x="1143000" y="2819520"/>
              <a:ext cx="6095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the ovary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43000" y="2133720"/>
              <a:ext cx="7391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stigma, it grows down the style t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3520" y="1447920"/>
              <a:ext cx="883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1.  when the pollen lands on th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Double Fertilizatio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57200" y="2362320"/>
            <a:ext cx="8381880" cy="2303640"/>
            <a:chOff x="457200" y="2362320"/>
            <a:chExt cx="8381880" cy="2303640"/>
          </a:xfrm>
        </p:grpSpPr>
        <p:sp>
          <p:nvSpPr>
            <p:cNvPr id="119" name=""/>
            <p:cNvSpPr/>
            <p:nvPr/>
          </p:nvSpPr>
          <p:spPr>
            <a:xfrm>
              <a:off x="990360" y="3962520"/>
              <a:ext cx="78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(a source of  nutrition for the zygote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066680" y="3124440"/>
              <a:ext cx="7010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rest of the ovary to form the </a:t>
              </a:r>
              <a:r>
                <a:rPr b="1" lang="en-US" sz="4000" spc="-1" strike="noStrike" u="sng">
                  <a:solidFill>
                    <a:srgbClr val="660066"/>
                  </a:solidFill>
                  <a:uFillTx/>
                  <a:latin typeface="Times New Roman"/>
                  <a:ea typeface="Times New Roman"/>
                </a:rPr>
                <a:t>frui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7200" y="2362320"/>
              <a:ext cx="784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b.  the other sperm fuses with th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Dispersal of Seeds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95280" y="5029200"/>
            <a:ext cx="7010280" cy="1630440"/>
            <a:chOff x="1295280" y="5029200"/>
            <a:chExt cx="7010280" cy="1630440"/>
          </a:xfrm>
        </p:grpSpPr>
        <p:sp>
          <p:nvSpPr>
            <p:cNvPr id="124" name=""/>
            <p:cNvSpPr/>
            <p:nvPr/>
          </p:nvSpPr>
          <p:spPr>
            <a:xfrm>
              <a:off x="1981080" y="5715000"/>
              <a:ext cx="6248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not digest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95280" y="5029200"/>
              <a:ext cx="701028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b.  fruit is eaten but the seeds ar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219320" y="426708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a.  stick to their f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350532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3.  anim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274320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2.  w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98108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1.  w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Parts of a Flower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487692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510552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B.  </a:t>
            </a:r>
            <a:r>
              <a:rPr b="1" lang="en-US" sz="40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filament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– holds up the anth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990720" y="3276720"/>
            <a:ext cx="7391160" cy="1541520"/>
            <a:chOff x="990720" y="3276720"/>
            <a:chExt cx="7391160" cy="1541520"/>
          </a:xfrm>
        </p:grpSpPr>
        <p:sp>
          <p:nvSpPr>
            <p:cNvPr id="48" name=""/>
            <p:cNvSpPr/>
            <p:nvPr/>
          </p:nvSpPr>
          <p:spPr>
            <a:xfrm>
              <a:off x="1828800" y="4114800"/>
              <a:ext cx="58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contains pollen (sperm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90720" y="3276720"/>
              <a:ext cx="7391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A.  </a:t>
              </a:r>
              <a:r>
                <a:rPr b="1" lang="en-US" sz="4000" spc="-1" strike="noStrike" u="sng">
                  <a:solidFill>
                    <a:srgbClr val="660066"/>
                  </a:solidFill>
                  <a:uFillTx/>
                  <a:latin typeface="Times New Roman"/>
                  <a:ea typeface="Times New Roman"/>
                </a:rPr>
                <a:t>anther</a:t>
              </a:r>
              <a:r>
                <a:rPr b="0" lang="en-US" sz="40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 – part of the flower tha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304920" y="213372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1.  Male parts of a flower (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stamen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Parts of a Flower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143000" y="4343400"/>
            <a:ext cx="6934320" cy="1465560"/>
            <a:chOff x="1143000" y="4343400"/>
            <a:chExt cx="6934320" cy="1465560"/>
          </a:xfrm>
        </p:grpSpPr>
        <p:sp>
          <p:nvSpPr>
            <p:cNvPr id="53" name=""/>
            <p:cNvSpPr/>
            <p:nvPr/>
          </p:nvSpPr>
          <p:spPr>
            <a:xfrm>
              <a:off x="1828800" y="5105520"/>
              <a:ext cx="601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the pollen travels dow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43000" y="4343400"/>
              <a:ext cx="6934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B.  </a:t>
              </a:r>
              <a:r>
                <a:rPr b="1" lang="en-US" sz="4000" spc="-1" strike="noStrike" u="sng">
                  <a:solidFill>
                    <a:srgbClr val="660066"/>
                  </a:solidFill>
                  <a:uFillTx/>
                  <a:latin typeface="Times New Roman"/>
                  <a:ea typeface="Times New Roman"/>
                </a:rPr>
                <a:t>style</a:t>
              </a:r>
              <a:r>
                <a:rPr b="0" lang="en-US" sz="40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 – tube through which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1066680" y="2819520"/>
            <a:ext cx="6248520" cy="1389240"/>
            <a:chOff x="1066680" y="2819520"/>
            <a:chExt cx="6248520" cy="1389240"/>
          </a:xfrm>
        </p:grpSpPr>
        <p:sp>
          <p:nvSpPr>
            <p:cNvPr id="56" name=""/>
            <p:cNvSpPr/>
            <p:nvPr/>
          </p:nvSpPr>
          <p:spPr>
            <a:xfrm>
              <a:off x="1905120" y="3505320"/>
              <a:ext cx="5410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receives the polle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6680" y="2819520"/>
              <a:ext cx="6248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A.  </a:t>
              </a:r>
              <a:r>
                <a:rPr b="1" lang="en-US" sz="4000" spc="-1" strike="noStrike" u="sng">
                  <a:solidFill>
                    <a:srgbClr val="660066"/>
                  </a:solidFill>
                  <a:uFillTx/>
                  <a:latin typeface="Times New Roman"/>
                  <a:ea typeface="Times New Roman"/>
                </a:rPr>
                <a:t>stigma</a:t>
              </a:r>
              <a:r>
                <a:rPr b="0" lang="en-US" sz="40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 – sticky tip tha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533520" y="18288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2.  Female parts of a flower (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pistil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Parts of a Flower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09480" y="2133720"/>
            <a:ext cx="8153640" cy="2151000"/>
            <a:chOff x="609480" y="2133720"/>
            <a:chExt cx="8153640" cy="2151000"/>
          </a:xfrm>
        </p:grpSpPr>
        <p:grpSp>
          <p:nvGrpSpPr>
            <p:cNvPr id="61" name=""/>
            <p:cNvGrpSpPr/>
            <p:nvPr/>
          </p:nvGrpSpPr>
          <p:grpSpPr>
            <a:xfrm>
              <a:off x="609480" y="2133720"/>
              <a:ext cx="8153640" cy="1981080"/>
              <a:chOff x="609480" y="2133720"/>
              <a:chExt cx="8153640" cy="1981080"/>
            </a:xfrm>
          </p:grpSpPr>
          <p:sp>
            <p:nvSpPr>
              <p:cNvPr id="62" name=""/>
              <p:cNvSpPr/>
              <p:nvPr/>
            </p:nvSpPr>
            <p:spPr>
              <a:xfrm>
                <a:off x="1371600" y="3657600"/>
                <a:ext cx="3657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295280" y="2895480"/>
                <a:ext cx="7467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contains eggs; eggs are located in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09480" y="2133720"/>
                <a:ext cx="75438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C.  </a:t>
                </a:r>
                <a:r>
                  <a:rPr b="1" lang="en-US" sz="4000" spc="-1" strike="noStrike" u="sng">
                    <a:solidFill>
                      <a:srgbClr val="660066"/>
                    </a:solidFill>
                    <a:uFillTx/>
                    <a:latin typeface="Times New Roman"/>
                    <a:ea typeface="Times New Roman"/>
                  </a:rPr>
                  <a:t>ovary</a:t>
                </a:r>
                <a:r>
                  <a:rPr b="0" lang="en-US" sz="40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 – part of the flower that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1295280" y="3581280"/>
              <a:ext cx="5943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60066"/>
                  </a:solidFill>
                  <a:latin typeface="Times New Roman"/>
                </a:rPr>
                <a:t>ovules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40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becomes a frui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Parts of a Flower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219320" y="4191120"/>
            <a:ext cx="7086600" cy="2075040"/>
            <a:chOff x="1219320" y="4191120"/>
            <a:chExt cx="7086600" cy="2075040"/>
          </a:xfrm>
        </p:grpSpPr>
        <p:sp>
          <p:nvSpPr>
            <p:cNvPr id="68" name=""/>
            <p:cNvSpPr/>
            <p:nvPr/>
          </p:nvSpPr>
          <p:spPr>
            <a:xfrm>
              <a:off x="1905120" y="5562720"/>
              <a:ext cx="396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still a bu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905120" y="4876920"/>
              <a:ext cx="6400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protects the flower while it i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19320" y="4191120"/>
              <a:ext cx="6781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B.  </a:t>
              </a:r>
              <a:r>
                <a:rPr b="1" lang="en-US" sz="4000" spc="-1" strike="noStrike" u="sng">
                  <a:solidFill>
                    <a:srgbClr val="660066"/>
                  </a:solidFill>
                  <a:uFillTx/>
                  <a:latin typeface="Times New Roman"/>
                  <a:ea typeface="Times New Roman"/>
                </a:rPr>
                <a:t>sepals</a:t>
              </a:r>
              <a:r>
                <a:rPr b="0" lang="en-US" sz="40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 – green structure tha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1219320" y="2743200"/>
            <a:ext cx="7162560" cy="1465560"/>
            <a:chOff x="1219320" y="2743200"/>
            <a:chExt cx="7162560" cy="1465560"/>
          </a:xfrm>
        </p:grpSpPr>
        <p:sp>
          <p:nvSpPr>
            <p:cNvPr id="72" name=""/>
            <p:cNvSpPr/>
            <p:nvPr/>
          </p:nvSpPr>
          <p:spPr>
            <a:xfrm>
              <a:off x="1981080" y="3505320"/>
              <a:ext cx="6248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that attract birds and insect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219320" y="2743200"/>
              <a:ext cx="7162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A.  </a:t>
              </a:r>
              <a:r>
                <a:rPr b="1" lang="en-US" sz="4000" spc="-1" strike="noStrike" u="sng">
                  <a:solidFill>
                    <a:srgbClr val="660066"/>
                  </a:solidFill>
                  <a:uFillTx/>
                  <a:latin typeface="Times New Roman"/>
                  <a:ea typeface="Times New Roman"/>
                </a:rPr>
                <a:t>petals</a:t>
              </a:r>
              <a:r>
                <a:rPr b="0" lang="en-US" sz="40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 – attractive structure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380880" y="190512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3.  Non-gender parts of a flo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8534520" cy="5562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22860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imes New Roman"/>
              </a:rPr>
              <a:t>stam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33720" y="205740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imes New Roman"/>
              </a:rPr>
              <a:t>anth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33720" y="251460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imes New Roman"/>
              </a:rPr>
              <a:t>fila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66880" y="228600"/>
            <a:ext cx="4038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Times New Roman"/>
              </a:rPr>
              <a:t>Male Parts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534520" cy="5562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114800" y="175248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stigm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66880" y="38098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sty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8280" y="4419720"/>
            <a:ext cx="106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ova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487692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ovu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19520" y="228600"/>
            <a:ext cx="4038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0000"/>
                </a:solidFill>
                <a:latin typeface="Times New Roman"/>
              </a:rPr>
              <a:t>Female Parts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403848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pisti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534520" cy="5562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276720" y="617220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Times New Roman"/>
              </a:rPr>
              <a:t>sep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153280" y="243828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Times New Roman"/>
              </a:rPr>
              <a:t>peta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09680" y="228600"/>
            <a:ext cx="5257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8000"/>
                </a:solidFill>
                <a:latin typeface="Times New Roman"/>
              </a:rPr>
              <a:t>Non-Gender Parts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609480" y="762120"/>
            <a:ext cx="7696440" cy="2759040"/>
            <a:chOff x="609480" y="762120"/>
            <a:chExt cx="7696440" cy="2759040"/>
          </a:xfrm>
        </p:grpSpPr>
        <p:sp>
          <p:nvSpPr>
            <p:cNvPr id="92" name=""/>
            <p:cNvSpPr/>
            <p:nvPr/>
          </p:nvSpPr>
          <p:spPr>
            <a:xfrm>
              <a:off x="914400" y="2819520"/>
              <a:ext cx="57150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2057400"/>
              <a:ext cx="67057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1371600"/>
              <a:ext cx="6477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from the anther to the stigm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9480" y="762120"/>
              <a:ext cx="7696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660066"/>
                  </a:solidFill>
                  <a:uFillTx/>
                  <a:latin typeface="Times New Roman"/>
                  <a:ea typeface="Times New Roman"/>
                </a:rPr>
                <a:t>Pollination:</a:t>
              </a:r>
              <a:r>
                <a:rPr b="0" lang="en-US" sz="40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  the transfer of polle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143000" y="2819520"/>
            <a:ext cx="7772400" cy="3278520"/>
            <a:chOff x="1143000" y="2819520"/>
            <a:chExt cx="7772400" cy="3278520"/>
          </a:xfrm>
        </p:grpSpPr>
        <p:grpSp>
          <p:nvGrpSpPr>
            <p:cNvPr id="97" name=""/>
            <p:cNvGrpSpPr/>
            <p:nvPr/>
          </p:nvGrpSpPr>
          <p:grpSpPr>
            <a:xfrm>
              <a:off x="1143000" y="2819520"/>
              <a:ext cx="7772400" cy="2151000"/>
              <a:chOff x="1143000" y="2819520"/>
              <a:chExt cx="7772400" cy="2151000"/>
            </a:xfrm>
          </p:grpSpPr>
          <p:sp>
            <p:nvSpPr>
              <p:cNvPr id="98" name=""/>
              <p:cNvSpPr/>
              <p:nvPr/>
            </p:nvSpPr>
            <p:spPr>
              <a:xfrm>
                <a:off x="1676520" y="4267080"/>
                <a:ext cx="7238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stigma of the same flower or plant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676520" y="3505320"/>
                <a:ext cx="67053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one flower is transferred to the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143000" y="2819520"/>
                <a:ext cx="7620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1.  </a:t>
                </a:r>
                <a:r>
                  <a:rPr b="1" lang="en-US" sz="4000" spc="-1" strike="noStrike" u="sng">
                    <a:solidFill>
                      <a:srgbClr val="660066"/>
                    </a:solidFill>
                    <a:uFillTx/>
                    <a:latin typeface="Times New Roman"/>
                    <a:ea typeface="Times New Roman"/>
                  </a:rPr>
                  <a:t>self-pollination</a:t>
                </a:r>
                <a:r>
                  <a:rPr b="0" lang="en-US" sz="40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 – the pollen of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676520" y="5029200"/>
              <a:ext cx="6553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66"/>
                  </a:solidFill>
                  <a:latin typeface="Times New Roman"/>
                </a:rPr>
                <a:t>(offspring will be genetically identical)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1T00:40:06Z</dcterms:created>
  <dc:creator>PlanoISD</dc:creator>
  <dc:description/>
  <dc:language>en-US</dc:language>
  <cp:lastModifiedBy>Plano ISD</cp:lastModifiedBy>
  <dcterms:modified xsi:type="dcterms:W3CDTF">2005-02-24T15:00:16Z</dcterms:modified>
  <cp:revision>20</cp:revision>
  <dc:subject/>
  <dc:title>PowerPoint Presentation</dc:title>
</cp:coreProperties>
</file>